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11.png" ContentType="image/png"/>
  <Override PartName="/ppt/media/image31.wmf" ContentType="image/x-wmf"/>
  <Override PartName="/ppt/media/image29.wmf" ContentType="image/x-wmf"/>
  <Override PartName="/ppt/media/image4.jpeg" ContentType="image/jpeg"/>
  <Override PartName="/ppt/media/image8.wmf" ContentType="image/x-wmf"/>
  <Override PartName="/ppt/media/image7.wmf" ContentType="image/x-wmf"/>
  <Override PartName="/ppt/media/image23.gif" ContentType="image/gif"/>
  <Override PartName="/ppt/media/image3.png" ContentType="image/png"/>
  <Override PartName="/ppt/media/image9.wmf" ContentType="image/x-wmf"/>
  <Override PartName="/ppt/media/image12.gif" ContentType="image/gif"/>
  <Override PartName="/ppt/media/image18.gif" ContentType="image/gif"/>
  <Override PartName="/ppt/media/image13.jpeg" ContentType="image/jpeg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10.png" ContentType="image/png"/>
  <Override PartName="/ppt/media/image1.jpeg" ContentType="image/jpeg"/>
  <Override PartName="/ppt/media/image6.png" ContentType="image/png"/>
  <Override PartName="/ppt/media/image2.gif" ContentType="image/gif"/>
  <Override PartName="/ppt/media/image14.gif" ContentType="image/gif"/>
  <Override PartName="/ppt/media/image15.gif" ContentType="image/gif"/>
  <Override PartName="/ppt/media/image16.wmf" ContentType="image/x-wmf"/>
  <Override PartName="/ppt/media/image17.wmf" ContentType="image/x-wmf"/>
  <Override PartName="/ppt/media/image19.wmf" ContentType="image/x-wmf"/>
  <Override PartName="/ppt/media/image21.jpeg" ContentType="image/jpeg"/>
  <Override PartName="/ppt/media/image22.png" ContentType="image/png"/>
  <Override PartName="/ppt/media/image20.wmf" ContentType="image/x-wmf"/>
  <Override PartName="/ppt/media/image2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816-431A-4E65-90F1-A7AC9D55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DBF9-4232-4F02-A7CF-61C326E2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F68-FD0C-482A-AB95-1FBDEAFB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CC9-B121-4689-A177-5660F9B7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447-65B5-48AF-BACE-14664CF5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067-6665-4F5B-87E3-61EC8807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B77-9672-4558-BE9F-E7EFABDE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96D-8E44-4614-8E09-1FEC0B04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6E7-4622-494B-8AF7-6BE4D3FD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AEC-71D9-4DA5-B9D6-F3EB51D6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F53-2316-4674-84C2-413FD7B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EC2-CE2F-45FE-8F20-2FABA2DA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D9C0-1D16-4441-A0A8-E5DDC413D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earch.live.com/images/results.aspx?q=snow%20%7C%20id:E2684B598F441C2ED8DFBC435E1026DEDC78D615&amp;form=IGRE2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.gi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4171680" cy="374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4876920"/>
            <a:ext cx="6477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ickham Script Pro Semibold"/>
              </a:rPr>
              <a:t>Merry Christma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915400" y="65530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Jordan La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856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1828800" cy="3724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1650960" cy="266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0" y="3435480"/>
            <a:ext cx="2394000" cy="342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546440" y="1752480"/>
            <a:ext cx="4597560" cy="307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541760" y="4657680"/>
            <a:ext cx="4602240" cy="2200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9880" y="0"/>
            <a:ext cx="5791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no Pro Smbd Display"/>
              </a:rPr>
              <a:t>Santa's elv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438280" y="441972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657600" y="441972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181480" y="4419720"/>
            <a:ext cx="3962520" cy="251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3772080" cy="20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497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holly marie art and desig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553080" y="4419720"/>
            <a:ext cx="90828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5124600"/>
            <a:ext cx="3352680" cy="173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828800" y="5124600"/>
            <a:ext cx="3352680" cy="173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988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296280" cy="6934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417840"/>
            <a:ext cx="3695760" cy="344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1819440" cy="428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943600" y="3200400"/>
            <a:ext cx="1819440" cy="428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029200" y="1828800"/>
            <a:ext cx="1819440" cy="428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114800" y="3733920"/>
            <a:ext cx="1819440" cy="428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791320" y="3809880"/>
            <a:ext cx="2133360" cy="32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4114800" y="4267080"/>
            <a:ext cx="1819440" cy="428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791320" y="4343400"/>
            <a:ext cx="2133360" cy="324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3962520" y="3429000"/>
            <a:ext cx="1458720" cy="1790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4572000" y="3537000"/>
            <a:ext cx="3502080" cy="3321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205fb"/>
                </a:solidFill>
                <a:latin typeface="Goudy Stout"/>
              </a:rPr>
              <a:t>Its freezing out</a:t>
            </a:r>
            <a:r>
              <a:rPr b="0" lang="en-US" sz="8800" spc="-1" strike="noStrike">
                <a:solidFill>
                  <a:srgbClr val="2205fb"/>
                </a:solidFill>
                <a:latin typeface="Goudy Stou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62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60440" cy="965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29200" y="373392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1371600" cy="175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495680" y="3276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781680" y="609480"/>
            <a:ext cx="1866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O HO H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95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1d1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666880" y="2514600"/>
            <a:ext cx="3276720" cy="3124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38080" y="380880"/>
            <a:ext cx="1422360" cy="191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413400" y="727200"/>
            <a:ext cx="1467000" cy="1868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2560" y="4105440"/>
            <a:ext cx="1725480" cy="1895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3505320" y="457200"/>
            <a:ext cx="2203200" cy="2093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7162920" y="5003640"/>
            <a:ext cx="1627200" cy="1854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6858000" y="2895480"/>
            <a:ext cx="1878120" cy="1743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3505320" y="5816520"/>
            <a:ext cx="1930320" cy="1041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ve a great Christ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5706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6:36:25Z</dcterms:created>
  <dc:creator>766935</dc:creator>
  <dc:description/>
  <dc:language>en-US</dc:language>
  <cp:lastModifiedBy>766935</cp:lastModifiedBy>
  <dcterms:modified xsi:type="dcterms:W3CDTF">2008-12-17T16:35:13Z</dcterms:modified>
  <cp:revision>7</cp:revision>
  <dc:subject/>
  <dc:title>Slide 1</dc:title>
</cp:coreProperties>
</file>